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E00-F967-4F10-97AA-D73F8488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514-05B6-41C0-AAED-0B5C7031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B9D-4551-436E-B958-1D53B099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27A-416E-4B3C-80B9-80075244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695B-4044-4C0F-A400-0320335A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BEF6-E888-4DBF-AA24-46E149AD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4D78-46B8-4B34-86AB-EDF8027F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FB32-1366-4199-863A-7E159F3A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AFE7-B2A0-4A84-86B9-0159CACE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71D5-D57A-4638-AE36-56630527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FE6B-697D-4048-9C4F-E63161C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CC2-EE6E-4395-8295-A7772869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B9FE-2BC9-411F-8878-0C2A86B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672-341F-42E6-8B62-59AAC899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185-48EE-452F-A259-19C8D124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C6FB-FB5E-4918-99BA-7062AA26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0171-A62A-42B3-842A-EC41E6F4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C4D-A1CA-4130-BE92-5EF384F1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D9C-443A-45F0-ADB3-E9AD8BBD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1D4-C81F-4FBA-93F3-BE5F1F2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50C-2FD6-43F3-B915-F5A38415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6E2-E465-4601-AE4C-4E0B3F7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924-3E70-453B-9A6A-FA2DD11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196-32E6-4C76-B836-ED70F13E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0125-CF97-4D45-BAD0-ECF9E2D7AF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88D7-8D9B-473A-95FB-74B59590E8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..\..\..\..\Class Expectations\course geometryexpectations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ms-morgan.wikispaces.com/Morgan%27s+Home+Page" TargetMode="External"/><Relationship Id="rId2" Type="http://schemas.openxmlformats.org/officeDocument/2006/relationships/hyperlink" Target="http://pams-morgan.wikispaces.com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elcome Bac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. Mor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metry Hon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572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ptember 3, 201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TO NAME A LINE- USE ANY 2 POINTS ON THE 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LINE RT or  LINE ST or LINE R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7" name="Group 16"/>
          <p:cNvGrpSpPr/>
          <p:nvPr/>
        </p:nvGrpSpPr>
        <p:grpSpPr>
          <a:xfrm>
            <a:off x="1050840" y="2971800"/>
            <a:ext cx="3661920" cy="1968120"/>
            <a:chOff x="1050840" y="2971800"/>
            <a:chExt cx="3661920" cy="1968120"/>
          </a:xfrm>
        </p:grpSpPr>
        <p:sp>
          <p:nvSpPr>
            <p:cNvPr id="188" name="Line 4"/>
            <p:cNvSpPr/>
            <p:nvPr/>
          </p:nvSpPr>
          <p:spPr>
            <a:xfrm flipV="1">
              <a:off x="1066680" y="2971800"/>
              <a:ext cx="3200400" cy="990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1050840" y="4114800"/>
              <a:ext cx="538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9900"/>
                  </a:solidFill>
                  <a:latin typeface="Verdana"/>
                </a:rPr>
                <a:t>R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Text Box 7"/>
            <p:cNvSpPr/>
            <p:nvPr/>
          </p:nvSpPr>
          <p:spPr>
            <a:xfrm>
              <a:off x="4234680" y="2973240"/>
              <a:ext cx="47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9900"/>
                  </a:solidFill>
                  <a:latin typeface="Verdana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2651040" y="3581280"/>
              <a:ext cx="49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9900"/>
                  </a:solidFill>
                  <a:latin typeface="Verdana"/>
                </a:rPr>
                <a:t>S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2" name="Text Box 11"/>
          <p:cNvSpPr/>
          <p:nvPr/>
        </p:nvSpPr>
        <p:spPr>
          <a:xfrm>
            <a:off x="5089680" y="441972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Verdana"/>
              </a:rPr>
              <a:t>RT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5181480" y="4419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422440" y="525780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Verdana"/>
              </a:rPr>
              <a:t>RS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438280" y="53341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7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POINTS ON THE SAME LINE ARE CALLED </a:t>
            </a:r>
            <a:r>
              <a:rPr b="1" i="1" lang="en-US" sz="4800" spc="-1" strike="noStrike" u="sng">
                <a:solidFill>
                  <a:srgbClr val="ffff66"/>
                </a:solidFill>
                <a:uFillTx/>
                <a:latin typeface="Arial"/>
              </a:rPr>
              <a:t>COLLINEAR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POI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A, B, AND Y ARE </a:t>
            </a:r>
            <a:r>
              <a:rPr b="1" i="1" lang="en-US" sz="4000" spc="-1" strike="noStrike">
                <a:solidFill>
                  <a:srgbClr val="ffff66"/>
                </a:solidFill>
                <a:latin typeface="Verdana"/>
              </a:rPr>
              <a:t>COLLINE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Line 5"/>
          <p:cNvSpPr/>
          <p:nvPr/>
        </p:nvSpPr>
        <p:spPr>
          <a:xfrm flipV="1">
            <a:off x="1523880" y="2971440"/>
            <a:ext cx="6248520" cy="1523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057400" y="4343400"/>
            <a:ext cx="3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737320" y="3505320"/>
            <a:ext cx="43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267080" y="3886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0" descr="MPj04390110000[1]"/>
          <p:cNvPicPr/>
          <p:nvPr/>
        </p:nvPicPr>
        <p:blipFill>
          <a:blip r:embed="rId1"/>
          <a:stretch/>
        </p:blipFill>
        <p:spPr>
          <a:xfrm>
            <a:off x="4876920" y="472428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Line 11"/>
          <p:cNvSpPr/>
          <p:nvPr/>
        </p:nvSpPr>
        <p:spPr>
          <a:xfrm>
            <a:off x="4038480" y="5181480"/>
            <a:ext cx="4343400" cy="137160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4266720" y="5029200"/>
            <a:ext cx="4419720" cy="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346480" y="3581280"/>
            <a:ext cx="4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4556160" y="3048120"/>
            <a:ext cx="4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5715000" y="2743200"/>
            <a:ext cx="79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TO NAME A PLANE WE USE 3 OR 4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NONCOLLINEAR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 POI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Verdana"/>
              </a:rPr>
              <a:t>PLANE WAG or XAG or WX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914400" y="2666880"/>
            <a:ext cx="6019920" cy="2362320"/>
          </a:xfrm>
          <a:prstGeom prst="parallelogram">
            <a:avLst>
              <a:gd name="adj" fmla="val 6370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905120" y="32767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W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124080" y="2590920"/>
            <a:ext cx="3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52280" y="5208480"/>
            <a:ext cx="11557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Verdana"/>
              </a:rPr>
              <a:t>PLANES CAN BE NAMED U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9900"/>
                </a:solidFill>
                <a:latin typeface="Verdana"/>
              </a:rPr>
              <a:t>1 LETTER …. PLANE </a:t>
            </a:r>
            <a:r>
              <a:rPr b="1" i="1" lang="en-US" sz="4800" spc="-1" strike="noStrike">
                <a:solidFill>
                  <a:srgbClr val="ff9900"/>
                </a:solidFill>
                <a:latin typeface="Times New Roman"/>
              </a:rPr>
              <a:t>Q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5943600" y="274320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60680" y="27590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048120" y="40384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G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1" i="1" lang="en-US" sz="5400" spc="-1" strike="noStrike" u="sng">
                <a:solidFill>
                  <a:srgbClr val="ffff66"/>
                </a:solidFill>
                <a:uFillTx/>
                <a:latin typeface="Arial"/>
              </a:rPr>
              <a:t>INTERSECTION</a:t>
            </a: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 OF 2 LINES IS A POI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2362320" y="2209680"/>
            <a:ext cx="4190760" cy="2286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2438280" y="2743200"/>
            <a:ext cx="5562720" cy="7621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724280" y="3048120"/>
            <a:ext cx="5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219320" y="46990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S IS THE </a:t>
            </a:r>
            <a:r>
              <a:rPr b="1" i="1" lang="en-US" sz="3600" spc="-1" strike="noStrike" u="sng">
                <a:solidFill>
                  <a:srgbClr val="ffff66"/>
                </a:solidFill>
                <a:uFillTx/>
                <a:latin typeface="Verdana"/>
              </a:rPr>
              <a:t>INTERSE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OF THE 2 LIN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Arial"/>
              </a:rPr>
              <a:t>LINE AB IS CONTAINED IN PLANE </a:t>
            </a: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Q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2133720" y="304920"/>
            <a:ext cx="685800" cy="0"/>
          </a:xfrm>
          <a:prstGeom prst="line">
            <a:avLst/>
          </a:prstGeom>
          <a:ln w="5724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838080" y="1905120"/>
            <a:ext cx="7467840" cy="4038480"/>
          </a:xfrm>
          <a:prstGeom prst="parallelogram">
            <a:avLst>
              <a:gd name="adj" fmla="val 4622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6"/>
          <p:cNvSpPr/>
          <p:nvPr/>
        </p:nvSpPr>
        <p:spPr>
          <a:xfrm flipV="1">
            <a:off x="1905120" y="2895120"/>
            <a:ext cx="4267080" cy="1752840"/>
          </a:xfrm>
          <a:prstGeom prst="line">
            <a:avLst/>
          </a:prstGeom>
          <a:ln w="7632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7162920" y="18288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60000" y="308304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638680" y="3048120"/>
            <a:ext cx="7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LINE XY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INTERSECTS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 PLANE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Q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 AT POINT 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219320" y="2514600"/>
            <a:ext cx="6629400" cy="2362320"/>
          </a:xfrm>
          <a:prstGeom prst="parallelogram">
            <a:avLst>
              <a:gd name="adj" fmla="val 7015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Line 5"/>
          <p:cNvSpPr/>
          <p:nvPr/>
        </p:nvSpPr>
        <p:spPr>
          <a:xfrm flipH="1">
            <a:off x="4495680" y="1828800"/>
            <a:ext cx="1067040" cy="17524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768000" y="251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86200" y="2851200"/>
            <a:ext cx="7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964400" y="155592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2057400" y="228600"/>
            <a:ext cx="685800" cy="0"/>
          </a:xfrm>
          <a:prstGeom prst="line">
            <a:avLst/>
          </a:prstGeom>
          <a:ln w="5724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3657600" y="3505320"/>
            <a:ext cx="838080" cy="1371600"/>
          </a:xfrm>
          <a:prstGeom prst="line">
            <a:avLst/>
          </a:prstGeom>
          <a:ln w="7632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3047760" y="4876920"/>
            <a:ext cx="60948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4267080" y="2703600"/>
            <a:ext cx="85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b76"/>
                </a:solidFill>
                <a:latin typeface="Verdana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MPj04305160000[1]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7322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0" y="152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Verdana"/>
              </a:rPr>
              <a:t>THE ARROW INTERSEC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66ffff"/>
                </a:solidFill>
                <a:latin typeface="Verdana"/>
              </a:rPr>
              <a:t>THE TARGET AT 1 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Lines YB and XZ </a:t>
            </a:r>
            <a:r>
              <a:rPr b="1" i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do not</a:t>
            </a: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 inters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057400" y="1600200"/>
            <a:ext cx="6477120" cy="3429000"/>
          </a:xfrm>
          <a:prstGeom prst="parallelogram">
            <a:avLst>
              <a:gd name="adj" fmla="val 3993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3276720" y="4343400"/>
            <a:ext cx="228600" cy="533520"/>
          </a:xfrm>
          <a:prstGeom prst="line">
            <a:avLst/>
          </a:prstGeom>
          <a:ln w="7632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3505320" y="4876920"/>
            <a:ext cx="457200" cy="10666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520080" y="38448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39520" y="2778120"/>
            <a:ext cx="5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3505320" y="2971800"/>
            <a:ext cx="2819160" cy="15238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6049080" y="3584520"/>
            <a:ext cx="5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1752480" y="609480"/>
            <a:ext cx="8384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4114800" y="5335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3809880" y="609480"/>
            <a:ext cx="8384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5"/>
          <p:cNvSpPr/>
          <p:nvPr/>
        </p:nvSpPr>
        <p:spPr>
          <a:xfrm flipH="1" flipV="1">
            <a:off x="2437920" y="2285640"/>
            <a:ext cx="838440" cy="19810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864800" y="2320920"/>
            <a:ext cx="53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Z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2514600" y="23446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3077640" y="346536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THE INTERSECTION OF 2 PLANES IS A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LI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955960" y="1676520"/>
            <a:ext cx="3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1995480" y="516564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93000" y="384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78560" y="516564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3650400" y="4222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25909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714680" y="2498760"/>
            <a:ext cx="4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5482440" y="2698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406760" y="49086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AutoShape 22"/>
          <p:cNvSpPr/>
          <p:nvPr/>
        </p:nvSpPr>
        <p:spPr>
          <a:xfrm>
            <a:off x="2209680" y="2362320"/>
            <a:ext cx="4191120" cy="28191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6400800" y="1730520"/>
            <a:ext cx="6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6575400" y="4098960"/>
            <a:ext cx="4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5257800" y="228600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Line 29"/>
          <p:cNvSpPr/>
          <p:nvPr/>
        </p:nvSpPr>
        <p:spPr>
          <a:xfrm>
            <a:off x="2209680" y="3048120"/>
            <a:ext cx="3505320" cy="0"/>
          </a:xfrm>
          <a:prstGeom prst="line">
            <a:avLst/>
          </a:prstGeom>
          <a:ln w="7632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30"/>
          <p:cNvSpPr/>
          <p:nvPr/>
        </p:nvSpPr>
        <p:spPr>
          <a:xfrm flipH="1">
            <a:off x="5714640" y="2362320"/>
            <a:ext cx="685800" cy="68580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715000" y="3048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0"/>
          <p:cNvGrpSpPr/>
          <p:nvPr/>
        </p:nvGrpSpPr>
        <p:grpSpPr>
          <a:xfrm>
            <a:off x="1219320" y="2124000"/>
            <a:ext cx="6400800" cy="4537080"/>
            <a:chOff x="1219320" y="2124000"/>
            <a:chExt cx="6400800" cy="4537080"/>
          </a:xfrm>
        </p:grpSpPr>
        <p:sp>
          <p:nvSpPr>
            <p:cNvPr id="276" name="Line 19"/>
            <p:cNvSpPr/>
            <p:nvPr/>
          </p:nvSpPr>
          <p:spPr>
            <a:xfrm flipH="1">
              <a:off x="3810240" y="5594400"/>
              <a:ext cx="457200" cy="10666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Text Box 22"/>
            <p:cNvSpPr/>
            <p:nvPr/>
          </p:nvSpPr>
          <p:spPr>
            <a:xfrm>
              <a:off x="4943880" y="212400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3399"/>
                  </a:solidFill>
                  <a:latin typeface="Verdana"/>
                </a:rPr>
                <a:t>Y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AutoShape 8"/>
            <p:cNvSpPr/>
            <p:nvPr/>
          </p:nvSpPr>
          <p:spPr>
            <a:xfrm>
              <a:off x="1219320" y="3200400"/>
              <a:ext cx="6400800" cy="2438280"/>
            </a:xfrm>
            <a:prstGeom prst="parallelogram">
              <a:avLst>
                <a:gd name="adj" fmla="val 65628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 flipV="1">
              <a:off x="2895840" y="3688920"/>
              <a:ext cx="3809880" cy="838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2972160" y="3765600"/>
              <a:ext cx="350496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Text Box 12"/>
            <p:cNvSpPr/>
            <p:nvPr/>
          </p:nvSpPr>
          <p:spPr>
            <a:xfrm>
              <a:off x="2523600" y="4329000"/>
              <a:ext cx="944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3b76"/>
                  </a:solidFill>
                  <a:latin typeface="Verdana"/>
                </a:rPr>
                <a:t>W</a:t>
              </a:r>
              <a:r>
                <a:rPr b="1" i="1" lang="en-US" sz="6000" spc="-1" strike="noStrike">
                  <a:solidFill>
                    <a:srgbClr val="ffffff"/>
                  </a:solidFill>
                  <a:latin typeface="Verdana"/>
                </a:rPr>
                <a:t>.</a:t>
              </a:r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5572080" y="4314960"/>
              <a:ext cx="72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3b76"/>
                  </a:solidFill>
                  <a:latin typeface="Verdana"/>
                </a:rPr>
                <a:t>S</a:t>
              </a:r>
              <a:r>
                <a:rPr b="1" i="1" lang="en-US" sz="6000" spc="-1" strike="noStrike">
                  <a:solidFill>
                    <a:srgbClr val="ffffff"/>
                  </a:solidFill>
                  <a:latin typeface="Verdana"/>
                </a:rPr>
                <a:t>.</a:t>
              </a:r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4876920" y="408312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3b76"/>
                  </a:solidFill>
                  <a:latin typeface="Verdana"/>
                </a:rPr>
                <a:t>P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Text Box 23"/>
            <p:cNvSpPr/>
            <p:nvPr/>
          </p:nvSpPr>
          <p:spPr>
            <a:xfrm>
              <a:off x="4222080" y="559764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Verdana"/>
                </a:rPr>
                <a:t>X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Text Box 25"/>
            <p:cNvSpPr/>
            <p:nvPr/>
          </p:nvSpPr>
          <p:spPr>
            <a:xfrm>
              <a:off x="3810240" y="5402160"/>
              <a:ext cx="3808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5258160" y="224172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 flipH="1">
              <a:off x="4267080" y="3994200"/>
              <a:ext cx="685800" cy="1600200"/>
            </a:xfrm>
            <a:prstGeom prst="line">
              <a:avLst/>
            </a:prstGeom>
            <a:ln w="7632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4178520" y="2819520"/>
              <a:ext cx="13082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3b76"/>
                  </a:solidFill>
                  <a:latin typeface="Verdana"/>
                </a:rPr>
                <a:t>G</a:t>
              </a:r>
              <a:r>
                <a:rPr b="0" i="1" lang="en-US" sz="10600" spc="-1" strike="noStrike">
                  <a:solidFill>
                    <a:srgbClr val="ffffff"/>
                  </a:solidFill>
                  <a:latin typeface="Verdana"/>
                </a:rPr>
                <a:t>.</a:t>
              </a:r>
              <a:endParaRPr b="0" lang="en-US" sz="10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53604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POINTS AND LINES CONTAINED IN THE SAME PLANE ARE CALLED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COPLAN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4800600" y="35053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4952520" y="2209680"/>
            <a:ext cx="838440" cy="182880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tend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e Break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kisp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lass Expect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book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ints, Lines, and Pla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 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Ms.Morgan’s Wikispac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ams-morgan.wikispace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b37"/>
            </a:gs>
            <a:gs pos="50000">
              <a:srgbClr val="003b76"/>
            </a:gs>
            <a:gs pos="100000">
              <a:srgbClr val="001b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dod1"/>
          <p:cNvPicPr/>
          <p:nvPr/>
        </p:nvPicPr>
        <p:blipFill>
          <a:blip r:embed="rId1"/>
          <a:stretch/>
        </p:blipFill>
        <p:spPr>
          <a:xfrm>
            <a:off x="990720" y="2209680"/>
            <a:ext cx="7162560" cy="4648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Times New Roman"/>
              </a:rPr>
              <a:t>POINTS, LINES AND PLANES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94640" y="1701720"/>
            <a:ext cx="20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tion 1-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4" descr="gingerbread house"/>
          <p:cNvPicPr/>
          <p:nvPr/>
        </p:nvPicPr>
        <p:blipFill>
          <a:blip r:embed="rId1"/>
          <a:stretch/>
        </p:blipFill>
        <p:spPr>
          <a:xfrm>
            <a:off x="8763120" y="6454800"/>
            <a:ext cx="90360" cy="9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ED00306_0000[1]"/>
          <p:cNvPicPr/>
          <p:nvPr/>
        </p:nvPicPr>
        <p:blipFill>
          <a:blip r:embed="rId2"/>
          <a:stretch/>
        </p:blipFill>
        <p:spPr>
          <a:xfrm>
            <a:off x="457200" y="4384800"/>
            <a:ext cx="2514600" cy="247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MCj04126280000[1]"/>
          <p:cNvPicPr/>
          <p:nvPr/>
        </p:nvPicPr>
        <p:blipFill>
          <a:blip r:embed="rId3"/>
          <a:stretch/>
        </p:blipFill>
        <p:spPr>
          <a:xfrm rot="744600">
            <a:off x="5257800" y="4362120"/>
            <a:ext cx="3886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ecff"/>
                </a:solidFill>
                <a:latin typeface="Arial"/>
              </a:rPr>
              <a:t>POINT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152280" y="1371240"/>
            <a:ext cx="9524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i="1" lang="en-US" sz="4000" spc="-1" strike="noStrike">
                <a:solidFill>
                  <a:srgbClr val="ffff66"/>
                </a:solidFill>
                <a:latin typeface="Verdana"/>
              </a:rPr>
              <a:t>POINT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is an exact location on a graph, shape or in spac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The ball is a </a:t>
            </a:r>
            <a:r>
              <a:rPr b="1" i="1" lang="en-US" sz="4000" spc="-1" strike="noStrike">
                <a:solidFill>
                  <a:srgbClr val="ffff66"/>
                </a:solidFill>
                <a:latin typeface="Verdana"/>
                <a:ea typeface="Arial"/>
              </a:rPr>
              <a:t>POINT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 on the lin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1981080" y="4800600"/>
            <a:ext cx="510552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7" descr="BD21294_"/>
          <p:cNvPicPr/>
          <p:nvPr/>
        </p:nvPicPr>
        <p:blipFill>
          <a:blip r:embed="rId1"/>
          <a:stretch/>
        </p:blipFill>
        <p:spPr>
          <a:xfrm>
            <a:off x="3962520" y="4495680"/>
            <a:ext cx="581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ecff"/>
                </a:solidFill>
                <a:latin typeface="Arial"/>
              </a:rPr>
              <a:t>LINE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i="1" lang="en-US" sz="3600" spc="-1" strike="noStrike">
                <a:solidFill>
                  <a:srgbClr val="ffff66"/>
                </a:solidFill>
                <a:latin typeface="Verdana"/>
              </a:rPr>
              <a:t>LINE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goes in opposite directions and never, ever end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609480" y="2362320"/>
            <a:ext cx="815364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23" descr="MCj02150480000[1]"/>
          <p:cNvPicPr/>
          <p:nvPr/>
        </p:nvPicPr>
        <p:blipFill>
          <a:blip r:embed="rId1"/>
          <a:stretch/>
        </p:blipFill>
        <p:spPr>
          <a:xfrm>
            <a:off x="1905120" y="2666880"/>
            <a:ext cx="5105160" cy="245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4"/>
          <p:cNvSpPr/>
          <p:nvPr/>
        </p:nvSpPr>
        <p:spPr>
          <a:xfrm>
            <a:off x="0" y="5365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ake a pearl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cklace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and stretch it ou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he pearls are like points on a l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ecff"/>
                </a:solidFill>
                <a:latin typeface="Arial"/>
              </a:rPr>
              <a:t>PLAN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228960" y="1295280"/>
            <a:ext cx="9372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i="1" lang="en-US" sz="3600" spc="-1" strike="noStrike">
                <a:solidFill>
                  <a:srgbClr val="ffff66"/>
                </a:solidFill>
                <a:latin typeface="Verdana"/>
              </a:rPr>
              <a:t>PLANE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is a flat surface that goes on forever in all direction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Imagine sitting on an island in the middle of the ocean. No matter which way you look…all you see is water…forever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8" descr="MCj02949790000[1]"/>
          <p:cNvPicPr/>
          <p:nvPr/>
        </p:nvPicPr>
        <p:blipFill>
          <a:blip r:embed="rId1"/>
          <a:stretch/>
        </p:blipFill>
        <p:spPr>
          <a:xfrm>
            <a:off x="1600200" y="5181480"/>
            <a:ext cx="5486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Arial"/>
              </a:rPr>
              <a:t>TO NAME A POINT- WE USE A CAPTIAL LETTER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04760" y="2515680"/>
            <a:ext cx="66294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Verdana"/>
              </a:rPr>
              <a:t>.A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i="1" lang="en-US" sz="8000" spc="-1" strike="noStrike">
                <a:solidFill>
                  <a:srgbClr val="ffffff"/>
                </a:solidFill>
                <a:latin typeface="Verdana"/>
              </a:rPr>
              <a:t>.X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9:44:39Z</dcterms:created>
  <dc:creator>default</dc:creator>
  <dc:description/>
  <dc:language>en-US</dc:language>
  <cp:lastModifiedBy>Cynthia H. Morgan</cp:lastModifiedBy>
  <dcterms:modified xsi:type="dcterms:W3CDTF">2014-09-03T12:53:33Z</dcterms:modified>
  <cp:revision>29</cp:revision>
  <dc:subject/>
  <dc:title>Slide 1</dc:title>
</cp:coreProperties>
</file>